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31F8-0F8A-4C57-8509-CD683DFC2E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3EA2-B584-4B4B-9A14-4BFC2C84B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2B1-418A-465A-BEA6-44748064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77F-E880-4DB8-A63F-E8FB73BA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CCD-76A8-4688-9EC9-3AD9F5570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3EE7-84CC-4A86-A240-5B7F179A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4BE-FAAA-4836-8FD3-13DA4F17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252B-A4CB-4F46-AA72-2283621E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E2B-802D-45A4-87E8-042B1D07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6DB-B313-4E85-B03A-E7A643F9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325-5652-42D3-A78C-E5FEDDDF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476-EF6A-4491-BA32-5BD43777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A502-588F-4350-B28B-0F792FD6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3D3-EBEC-44AA-A494-28EABF44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ACAC-BC7D-4FC5-BABF-2FC26B90B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ShockwaveFlash1"/>
          <p:cNvGraphicFramePr/>
          <p:nvPr/>
        </p:nvGraphicFramePr>
        <p:xfrm>
          <a:off x="228600" y="0"/>
          <a:ext cx="8913960" cy="670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913960" cy="6707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3352320"/>
            <a:ext cx="8153280" cy="2667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Calibri"/>
              </a:rPr>
              <a:t>Bob : Je dois travailler au Krab Krustya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6b9b8"/>
                </a:solidFill>
                <a:latin typeface="Calibri"/>
              </a:rPr>
              <a:t>Patrice : Je vais avec toi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00"/>
                </a:solidFill>
                <a:latin typeface="Calibri"/>
              </a:rPr>
              <a:t>Bob : Tu vas y manger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e6b9b8"/>
                </a:solidFill>
                <a:latin typeface="Calibri"/>
              </a:rPr>
              <a:t>Patrice : Oui, Oui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1523880" y="1295280"/>
            <a:ext cx="6324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152280" y="228600"/>
            <a:ext cx="7696440" cy="2043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Eugene: L’argent l’argent l’ar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ob: mounsiur Krab!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Eugene: QOUI!?!?!?!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ob: Je Suis arrive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352320" y="0"/>
            <a:ext cx="5791320" cy="3276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e6b9b8"/>
                </a:solidFill>
                <a:latin typeface="Calibri"/>
              </a:rPr>
              <a:t>Patrice: J’ai faim et j’ai soif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e6b9b8"/>
                </a:solidFill>
                <a:latin typeface="Calibri"/>
              </a:rPr>
              <a:t>Patrice: Je voudrais un citron presse et des frites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e6b9b8"/>
                </a:solidFill>
                <a:latin typeface="Calibri"/>
              </a:rPr>
              <a:t>Patrice: Je voudrais une table libre et une nappe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ffff00"/>
                </a:solidFill>
                <a:latin typeface="Calibri"/>
              </a:rPr>
              <a:t>Bob: Ici vous allez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e6b9b8"/>
                </a:solidFill>
                <a:latin typeface="Calibri"/>
              </a:rPr>
              <a:t>Patrice: Voila un pourboire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133360" y="5257800"/>
            <a:ext cx="61722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2523"/>
                </a:solidFill>
                <a:latin typeface="Calibri"/>
              </a:rPr>
              <a:t>Eugene: Quelque fois J’aime me baigner dans l’argent le ma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4571640"/>
            <a:ext cx="8229600" cy="1981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Calibri"/>
              </a:rPr>
              <a:t>Patrice: Je voudrais un hot dog et un expr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andy: Je voudrais manger une salade verte et des frites, je voudrais un crè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533520" y="4800240"/>
            <a:ext cx="8229600" cy="20574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ob: le soir on va diner au Karb Crustil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Tout le monde: </a:t>
            </a: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nous allons une belle journé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46c0a"/>
                </a:solidFill>
                <a:latin typeface="Calibri"/>
              </a:rPr>
              <a:t>Tout le monde: AU REVOIR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7:54:14Z</dcterms:created>
  <dc:creator>Alon Neerman</dc:creator>
  <dc:description/>
  <dc:language>en-US</dc:language>
  <cp:lastModifiedBy>edill</cp:lastModifiedBy>
  <dcterms:modified xsi:type="dcterms:W3CDTF">2012-03-01T15:26:02Z</dcterms:modified>
  <cp:revision>31</cp:revision>
  <dc:subject/>
  <dc:title>Slide 1</dc:title>
</cp:coreProperties>
</file>